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10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9" name="PlaceHolder 2"/>
          <p:cNvSpPr>
            <a:spLocks noGrp="1"/>
          </p:cNvSpPr>
          <p:nvPr>
            <p:ph type="dt" idx="7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10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2" name="PlaceHolder 5"/>
          <p:cNvSpPr>
            <a:spLocks noGrp="1"/>
          </p:cNvSpPr>
          <p:nvPr>
            <p:ph type="ftr" idx="7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3" name="PlaceHolder 6"/>
          <p:cNvSpPr>
            <a:spLocks noGrp="1"/>
          </p:cNvSpPr>
          <p:nvPr>
            <p:ph type="sldNum" idx="7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FB01-42A1-4862-ACD1-77F249344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28BC-32CC-4DBD-8C0F-0CA115080841}"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494D-C0A8-491C-835C-A624F7C8F6D2}"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7794FE7-F8A6-4521-99BB-21E654DF9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E95B22F-D411-494E-B5E8-72A527635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19A77297-FB4C-4EEF-BFA2-EB8C43052E8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6BDB8E03-A682-4FFB-A30B-D77DB82FA17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D42B1890-2720-4BF5-9A30-B5A00F5C8A6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33E6D8F3-0BAB-46E3-955D-1A2DC38AC9D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19518B6E-36D0-4DC9-A7BF-70BCAAB2846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5FEE3488-1CCA-48E3-B5A8-DC2A7250B54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AE6A62EB-D1FF-4D3E-AE48-9B76947E0BF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71145C1E-0815-49A4-97E0-DAC189E459A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50BA7058-E44D-4942-BA71-F95C7EFA7A4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21B53A19-74D8-401A-8C5A-C3E36DD6209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404FE82-639E-4692-8774-A7D96A9BD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3BA67E5E-CFF4-41D7-B216-A6F440E7533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B46AF5BD-CF67-49A8-BAE0-F956CF3079F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F04FCDF7-53B1-43D8-AEA2-2E3B5CAA2F9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3447C044-D3B9-4B14-AD29-BB5C905FAB3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4169BE0A-5906-4C28-9F7E-12091BEAEA4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3BC798B0-30BE-407D-B583-89A8C34B3C0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2BF34471-591C-43BA-B262-D9216917CEA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B66A0C3C-690A-4DFB-8F9D-6A342D1E5F9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E5A027A9-3588-443D-BE96-59EF5793396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E1D00B08-84C1-4954-B3A3-C64C439E20E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4922883-36D3-4CA3-A2C2-240E8EEF6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43C0F493-BB94-407E-A547-661CBDCCB3F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12E5D8A1-8D8A-4B0A-8C52-ED5FD577A27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26E81D1E-8AEC-49C1-9457-3681D996DAD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2ED987D6-1FE4-43D5-A49C-8D8BC09E22F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E8F4DBDF-F274-4A35-BB99-643E94C5AD5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E31F49D1-4305-40FD-A6B0-2812D7F9114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9378D136-C763-409B-B355-81BD147494E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54B373C7-2780-4FD8-B3BF-43F3DA9B643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795C89D5-3DB4-4143-88BF-6356B052037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BB143996-0C06-418B-AF12-8178C520B41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1742F5-8C16-4B85-9C47-C1D7EDDCA4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5A9A32AF-82E1-48F8-8552-D5B83938B6D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3CA95DEA-C329-427F-8EE8-076640407ED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BD786626-1283-4574-9BB8-94D04CBD4F8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A8164AAB-6989-4641-AA07-B259C006A58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43EABF28-667B-442D-BAE8-972D814A625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2095C0B1-9379-4BC4-80B4-44DF6962401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978F3E5D-A6EF-44F6-A02C-1DB2CF3295B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A873913C-9831-4708-A3DE-A1494178BD8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78D9AF53-B16F-4681-9F11-CDFC686F09E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CB814235-5110-4E12-AB85-9C2614088BD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35F9F-A642-4523-8073-ABFC7E5E0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281DD1BD-B13D-405E-A6B7-FA991D17A2B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75470804-09C5-4FAB-9306-0D84EBBEEC6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A3494932-2502-4328-ABAF-23C9CF711B5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3DDF3205-E28D-4CD6-8AEC-2D727883D999}"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341E9A06-0B10-4A2E-ADA3-0242CE6057C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7"/>
          </p:nvPr>
        </p:nvSpPr>
        <p:spPr/>
        <p:txBody>
          <a:bodyPr/>
          <a:p>
            <a:fld id="{6B86B3D2-2460-49B3-9366-C5FE1CE8AD3E}"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1CED805D-63DD-4CC7-8C07-1AD5F9E3627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41F73448-536F-4CAA-B7BB-1E242D0A7E1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DD696253-B559-4EB0-9537-FBD8DFAC110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5B0AC607-591D-47AC-B449-AF3A543630D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FD261-1872-4EF6-AD43-69CB2AE18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3308BDA4-599C-4193-86EB-D2924D3C8CD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5A7D738D-02F4-4989-9BC0-DA6D2122A10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AF2080FA-F1D8-46B8-89B6-E447E7FE6D1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ABB0B1E9-CCDF-453A-9068-7C881DC9951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90BA5C39-84A0-42F1-94E6-C0EAE2AEB0E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7"/>
          </p:nvPr>
        </p:nvSpPr>
        <p:spPr/>
        <p:txBody>
          <a:bodyPr/>
          <a:p>
            <a:fld id="{FF6D223F-7F26-4476-951F-696180A83687}"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7"/>
          </p:nvPr>
        </p:nvSpPr>
        <p:spPr/>
        <p:txBody>
          <a:bodyPr/>
          <a:p>
            <a:fld id="{B4A6A50F-DFD5-468C-B21D-DE7A0FA1FE6C}"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4264519C-0D6F-42E6-8142-74ED0F18C23B}"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A92FD83-EF02-4ADD-99E4-8E1B84C3A1D0}"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1B86EDF0-18A2-4753-8742-B3ADF1898E1D}"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1B8C6-0B82-4A56-A238-5A304146C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4EB4985-5B87-477A-B91F-AE151986E60B}"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95B9988-1C0B-40B9-B608-475C2ADA721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B05C2B2-4F22-470A-855D-4A820EB35C5C}"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EB8EF86-4B00-4D09-A3A5-D74C99700B8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0C204B1-29C4-4E49-934F-61B586D7606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3DFDBDE-4033-46CE-B1A3-2405412EABAB}"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B0EAC31-15C7-467D-8D17-22BA11F4950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9B2EFF58-B6D6-4C18-A1F5-75F052451F33}"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8590CC84-E685-4E27-BD4F-9F6CF786787C}"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5AD09E75-BA0A-4673-8CD8-95C6E9BC1FE6}"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308DF-EAC8-4435-AD68-D7B5B5567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A0CCEEA-1BE5-4235-9DCF-613246856EB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D565BA47-5FB5-4F95-87AE-866C03F9E8D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4545548-AD2C-48C2-B3C9-16F33EBAF186}"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DA4509CA-A45A-4300-B76E-657035DB6CA2}"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04427AF6-8123-4E7D-9C49-CE55C664A7A4}"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841ECA4-1C52-4DFA-AE9A-347246AA754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972E43CA-EB6C-4C6A-BB65-08B882E2D6D7}"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AA5919E-767B-42A6-BD7C-4E1F9D1E7F0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97CAF0AB-5DDD-4CA3-B3B5-E069D1D552B1}"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BDA65D8E-F4CC-4649-96A2-914D76176E84}"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4CE5D-9CDD-4707-A63A-CBD19556C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AD68A381-BC28-4153-9E6F-7AC3C4871B47}"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2F3F99BD-0F2B-4F54-9179-ECF41CEDA700}"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DD0CA207-6F33-4D8F-89C3-03500CBA05B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49FA088E-FB33-4965-8B1B-518EC3EA9E28}"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2B585CA7-88EA-4A15-A47D-A49CCFEFE39F}"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CBDF8804-883E-4342-BA9B-E8E93571BAE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651147A-4C79-4DC0-9A8D-5D506A5A0B8F}"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02E325D-D1E6-4DFA-B04C-59EA28F0B18C}"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2F391EFA-3B25-4B3C-B4F0-720133AA9DD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CA2657C4-0784-48BB-A15B-FF39B12E3AB2}"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C4532-F949-42F7-8908-CC2025D32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132569A0-E88F-4488-B497-EA71A3D7A4B0}"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E3430670-CA5F-434B-93BB-8A9FE8E689BE}"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BF50DE55-A1B1-4F74-8DE8-7F24DFE3301E}"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02369031-3CFA-46B1-A72F-35B60DEA5728}"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30C5B2A0-0368-413A-864C-70B15A2FDFD1}"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A185B5F7-A755-47CC-A579-AF4788251826}"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853CA585-372E-4A4F-BB56-5BABDC9D801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B76B839-FB3B-422A-982F-142BE4F6D1B5}"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D0E9E19D-E9E9-439F-B5AF-9083DE275310}"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592B5EF8-ECFC-4459-A3DB-B432E287C0AF}"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540F126-6FA9-4427-8500-8B0CA0751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B20F4-3D7E-4DD0-B8C0-256F03A3C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8ED01FD-46EC-4567-89D8-DEEF9AFCDC74}"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209E431-9DF6-4FFD-903A-1CA3F89FC1D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F8BBB953-D764-46D0-BF11-533934C6C099}"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233AD24D-9A6F-408C-8005-EEFEAB8D5092}"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DC897EA8-9BFD-4733-9489-67C66D67AD7A}"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04C77D31-B118-44B8-A711-B05F21BC7DC3}"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B5337154-E124-457E-8A05-462C0118F48E}"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8245E6C1-CEA9-4C2C-88C4-A6D96CDE4ED6}"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690FA519-4E6B-48FE-A0E6-8866EEEDA285}"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5FF9A0FC-73D9-401E-8DF7-9FA1C131567F}"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6D1CD-82C7-418D-A07B-E069F61DE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CA0EE180-8887-4CCC-9FFE-75BE0D665D5A}"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DB5FB5C-AA39-47EA-93E5-932880F460C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C3A6B28-549E-4B79-9BC0-60A2FC5BA5AC}"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4C7FEE20-DB7B-4F77-AEA1-2432B6018C2D}"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A7D77AFC-3891-4341-AFE5-44FFA7E82086}"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0695ACDB-1CB6-4AE4-9C0E-AEFB3DC5E528}"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4830288C-E272-43C2-85FE-E4651B09706C}"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5F11FF2C-E69E-4521-86B5-09D4F123541A}"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1E855EEB-54F2-4BD1-A73D-E42DBED59B55}"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2827AE24-ABEA-4336-90CB-F39C28B7F18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4D696-2A9A-40AB-8D30-14DA2B0EC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8258D486-BF3C-46AC-8B4A-53D8CD3D38D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E066347B-4EBE-42DD-8FD9-AE503AADBA0B}"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F08FBEBF-D606-42C5-B3D9-AF2D99AD67BD}"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9A5AAF3-DCC8-43FC-A6AA-6CA7F4F5E0AE}"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DB33623F-0EB0-4550-9AE6-8D613241F4A2}"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E0E99C55-0541-4FD1-9286-9E4CCC9C94F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07DC4B9F-A358-40D9-AEDC-9A098FBFC76D}"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DAAEAED7-2A8B-4F0F-A8A0-7A846ED3514D}"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D61649BF-9B2F-470D-841F-C959FF6EB664}"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F0EE969F-3104-4B09-BEB9-DC0D098F017F}"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1FBDA-E2B9-4FF0-86D9-68D3FFBC0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DA3B32A6-F0A9-4967-9462-7A8B407AF3B9}"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8778F258-4902-43F6-B894-40194D9E7694}"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80246E33-1E22-4741-B553-F668FD0A6428}"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D7B8F1EC-1436-47E1-B6A4-CB6407A35A3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5AEBB4FF-6914-4EDD-9C1F-AF4D6F873C3C}"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557ACFD-0FB3-4D70-A593-04E5F4C22AB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58A45D6-5F8B-4EE1-8F56-FCD79D599F9A}"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3CBF9E3-A101-42D2-BB4A-F7522306E47A}"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108F316D-0099-4653-9124-FC33C19C1824}"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79EA77E2-82E1-4572-8339-4F4A743BE86B}"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AD560-8D02-41E3-A4DA-94245D873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2E168108-25FF-4847-891F-B4782EFF6DD4}"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59F75057-F2F0-44C1-9812-67F42883CAEE}"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613040E3-6E06-4306-8524-3BA3E14E2E24}"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C0D1761E-5241-496D-A968-D505A97FCD62}"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B4FB3532-3FEA-4C2F-ABFB-8302A238DEC5}"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CF3259D0-00DD-4E58-86BD-7A44474428B7}"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E0BBF5C-88E5-4098-B3BA-6BF047E47208}"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837DBF2-F9F9-461C-8C98-E600DCC47287}"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34AD54F-65AF-4FC0-84EB-391D7A1D643C}"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96CCFA1-A960-4CBE-980A-D99511715933}"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EDF5B96-233E-4432-ADF9-A7C271A4056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B61CC98B-B3F5-474B-92CB-E29F0363CCE1}"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D63CD5FD-5BD1-4444-9721-9C5C8364F644}"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53445949-7118-49C2-84D3-54BFF2E7A933}"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4C63EA4A-CC44-43A0-AA1C-D5371B51B73E}"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C1EAD2EC-C19F-4C61-B177-C15F6A06B9C0}"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1AAEFF20-7753-461E-9141-8C33C8FCD9EB}"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26B867CE-5FE6-4F54-9E2A-EA20130B5EE6}"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F58B37A5-1245-4586-ABC2-89CA8C959944}"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1EE415B5-7B6A-484D-9A6B-0F37443E9A07}"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ADB1DD64-E58F-432E-ABAE-C0BF7A7C41E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B040B16-F7E7-408D-9AB6-9A1F1C962779}"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5FA311C4-D27D-4DDE-BA13-3E0E1A43FAF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9B7CCFB3-E2CD-4AB7-B0EB-55DAB7AF0339}"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29568AF6-88BA-4AC0-B5E7-A0A0A58A9DC3}"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6CADF28A-C58B-4AEE-9C4E-1FD88C4A7200}"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2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05CA3AC0-D7A8-4D79-AA42-22F1AE8B37B6}"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CF17E632-D27D-4BF7-9095-9FEA0322474B}"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3BC3817A-4D5C-4424-90E9-1C1BB55B221F}"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21E707B0-B12B-4009-8184-9DF773984CAF}"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8EB0FDF1-5F02-4FFF-9F3B-7F4C08906B5E}"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F4E2E98D-7778-47D1-A5F3-B05F365089C5}"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5F6D30C-651E-40CF-A65F-DE8B6732059E}"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6A5D98F6-347F-42E6-BE9E-0CDF1B110233}"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4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731B90FA-3D92-415C-92C3-1FBF772F0D67}"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9D7A8F52-BF53-460A-A17D-5C6DDE2EBBA7}"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59835B2D-EE44-4A9F-8842-128DB3289785}"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7085E3AC-7D5F-4390-821A-22D32FD17E0D}"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07B03EA0-053D-4EC7-AD81-744BB7AFDB0B}"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6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84141D61-DA1C-42B4-9D39-E3A2D1B6E8F7}"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350459CA-0092-4580-8F0B-DB9C2915377E}"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09AD6CA0-D3DB-4269-A143-D46E4765FB3E}"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A9A531BD-4E7C-493B-9BF9-9154F530A432}"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D4EB444-F691-4DC8-8924-75AC234D93E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06DA7C48-E057-4E01-A712-F203B7E751B8}"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44CC857A-9855-48C9-B218-F0CFE258FE21}"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F17C8183-6B6C-4506-A807-FB5E9236541D}"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9C20EE18-9EAF-4D88-8989-3E1E0B5B74EC}"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6B7CB501-49B0-4F97-8DB6-622B0A3F6A0D}"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A6576E91-4A3C-4F03-8AA9-31D05B41142A}"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B7007252-A317-4E55-99E4-C474322D17A2}"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7D5DA3E2-6DD3-4E9D-9238-45998FE73264}"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905FFC71-12B0-43F7-8B4D-B29825A10E2C}"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2"/>
          </p:nvPr>
        </p:nvSpPr>
        <p:spPr/>
        <p:txBody>
          <a:bodyPr/>
          <a:p>
            <a:fld id="{6E60185E-D207-46E0-934F-FF74FF3A3F0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BABC273-A23B-497B-94BA-2ECFFCB8B494}"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2"/>
          </p:nvPr>
        </p:nvSpPr>
        <p:spPr/>
        <p:txBody>
          <a:bodyPr/>
          <a:p>
            <a:fld id="{FDBF3453-79BC-4314-A851-43DB34BEB128}"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2"/>
          </p:nvPr>
        </p:nvSpPr>
        <p:spPr/>
        <p:txBody>
          <a:bodyPr/>
          <a:p>
            <a:fld id="{027BE7E4-FBCE-4B5D-8172-F1656EB3A905}"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2"/>
          </p:nvPr>
        </p:nvSpPr>
        <p:spPr/>
        <p:txBody>
          <a:bodyPr/>
          <a:p>
            <a:fld id="{A23C143A-4474-4704-AC4C-CE4D2C3ABA8E}"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2"/>
          </p:nvPr>
        </p:nvSpPr>
        <p:spPr/>
        <p:txBody>
          <a:bodyPr/>
          <a:p>
            <a:fld id="{1C798EA5-3AEE-454B-BF6B-DA8BF9479CAD}"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2"/>
          </p:nvPr>
        </p:nvSpPr>
        <p:spPr/>
        <p:txBody>
          <a:bodyPr/>
          <a:p>
            <a:fld id="{28344A67-7B6B-4BB8-A5BF-372C54E77B5F}"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A6581ED1-302F-45A7-8CDF-B04196F21C58}"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E1DC0EBD-0272-4181-B029-379957B4825A}"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00E8F134-D63F-4CBF-9B71-D1DB6377D760}"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2"/>
          </p:nvPr>
        </p:nvSpPr>
        <p:spPr/>
        <p:txBody>
          <a:bodyPr/>
          <a:p>
            <a:fld id="{E660438D-13D5-4880-95E3-A7843B4F035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2"/>
          </p:nvPr>
        </p:nvSpPr>
        <p:spPr/>
        <p:txBody>
          <a:bodyPr/>
          <a:p>
            <a:fld id="{1D56EE36-1447-4C76-8187-7BDF12DDE6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ADACC9B-C081-45DB-8677-0B76A8973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6631998-AD3B-4F1C-A7BF-9428FC0A661A}"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2"/>
          </p:nvPr>
        </p:nvSpPr>
        <p:spPr/>
        <p:txBody>
          <a:bodyPr/>
          <a:p>
            <a:fld id="{70423B11-E02A-4F34-97CD-60F3C52EE34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33D0882-293B-44C2-9043-06CCEB9EAE5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F127098-0C79-465A-923D-0CDAC6A8FE7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78BD374-5C9B-4C69-BCD5-2E0FB2B71C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4581D87-9E60-4796-8A21-8FFE6DDA4B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5FA9C5B-D8F5-4942-93C2-92E2AA964A5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3916853-2227-46D8-B65F-FA611EDF2E7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FBA4C9B1-BDBB-42A6-940E-AD1B690FF0B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49D6D4C-3E7D-4AED-B657-D44E4BC82C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D02F78F-1E48-4558-8877-8F32730C32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1803CD-922E-4A9D-8E30-7B0160C1C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7CB0B1F-97C4-4ADA-930B-43A822F90B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31AB3EA-2961-4FF3-B5B6-36102AE274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33468CB-39E8-4392-BA30-88C33763B8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C973346-7E6D-44B7-84A8-73878247C8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79DF222-C28D-4700-9535-06F0714183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CA2BF4F-6D25-453C-B39C-974F72736D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D171FF4-8903-418A-AEFD-576C3FFC39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4D3B3CCC-E383-4B66-A091-482F6927CCF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E5718E20-979F-4E5C-9351-482C6840DF8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896A4410-3651-4FA0-9DB5-F2ED24561E4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8C48FE-06C7-40F0-B9F1-E5DEACDEF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6C07A7DD-410B-42A5-A3E0-460903C2B40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1F87DDE1-62E8-49ED-84F7-5AF761DC353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CD5F4070-C6B7-4518-B5B2-0823C30E15C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2283DFF1-00D7-4C26-9616-144AC067C37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DF81EE6F-FDBA-4341-A0AF-FB8FFE71D97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4BAFE836-DA4B-4D36-AD88-26E30293F40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2E4F8E39-35E0-4868-8418-617F8CBF961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16BE3904-1FC3-42FD-95FA-48B8AB75615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FDD19705-AE86-4025-92BC-B672FF0D9A8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F090EA0C-5946-4146-B7D5-41D1AD9FBE9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0C3E16F-BF84-44D4-8009-0C37B19E0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7C4D1865-5929-4100-8000-5EE8023C2F3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984032B8-8560-4FB6-8198-3DC7B782C1B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62C0351A-5792-48CC-9F64-D14532A7897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5798668C-A252-4899-AD67-3199D1E4700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A24B4216-CBD6-44EC-8156-DFA7C510C44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A624D72E-D132-4EA4-8291-5F63ED83029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F8039211-03BC-467E-A81D-EC2BFF2B86E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DBB2D39C-3BC8-4D09-AA63-BB654940D8B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6C918066-DB31-4115-97FD-3D90A9ADBE3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2023DCF8-48C3-4E8F-983E-BC877972ED0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47E1DA-2555-4C88-8F5A-D3BABD0B5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D977B7CE-0CD2-4D93-943C-1BA2703F58D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C8FE0011-565F-4844-996F-F147A5BA1E5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148C2AA7-3C5D-4887-9CA6-9C20E843D24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A4EDEC5D-7CA4-4D44-80D2-B0EAD05DEA5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16A66E8B-0180-4849-8D23-2D220DC1B43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92ED2BF5-DE60-4EBC-AE32-43992FE42E3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874DDDDB-62D6-4469-8C20-01FD8CA2BB5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548ECF01-7EAF-492E-8842-F9529A1606F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5A35C816-4F3D-4B87-A7CF-D254008C783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6F8CFE54-9991-491D-9360-830E6336912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922C68-8B86-4566-B780-6ADFAE195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C78D4656-4B45-43DF-9F2A-FB39BDFCBD8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D8B6F7A9-6811-4855-B021-976A487D9B4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FBBB3547-1959-49E4-88A6-914D3DB4D16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BE620573-6BE9-4257-935C-F143B155561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34555F42-C56C-4061-A302-80F1E0515EA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0B83C30B-4A4B-4E63-8E8F-880E8CE1C9C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6B763897-B625-435F-92E6-469A63C1BE2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F6EDE195-93CB-4465-B57F-B8A3169B779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CF02D6F4-E26F-442D-918F-FABEFD305B1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28C3B9C1-CD48-4E3A-9E0D-356A41849A4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47554AC-3351-417A-A262-4185CC79B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BFFA7EFB-D40A-40EE-8B5C-3C0A1529D00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E106FC21-2F10-41F3-B918-3CD29C92732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EEFB6F27-2068-4C48-9C57-82F24AF1AEF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718650FC-C52F-409A-B23A-E64D84240A3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6CBF7FCF-D984-4C67-A49D-C4A4ADC1711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D12C8F32-EE43-414C-97D9-6910D0ED2D6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E2A52DFE-C9FD-485C-89AD-E38437B0474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9B4DDD24-7134-45C0-A9F2-3B841CD7558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1612134F-A403-4DE4-B0FA-6F49C13A787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AE8E5406-DDF1-4331-90E1-D8588D5A1792}"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left_bar art"/>
          <p:cNvPicPr/>
          <p:nvPr/>
        </p:nvPicPr>
        <p:blipFill>
          <a:blip r:embed="rId3"/>
          <a:stretch/>
        </p:blipFill>
        <p:spPr>
          <a:xfrm>
            <a:off x="0" y="0"/>
            <a:ext cx="2514600" cy="7086600"/>
          </a:xfrm>
          <a:prstGeom prst="rect">
            <a:avLst/>
          </a:prstGeom>
          <a:ln w="0">
            <a:noFill/>
          </a:ln>
        </p:spPr>
      </p:pic>
      <p:sp>
        <p:nvSpPr>
          <p:cNvPr id="1"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 name="PlaceHolder 3"/>
          <p:cNvSpPr>
            <a:spLocks noGrp="1"/>
          </p:cNvSpPr>
          <p:nvPr>
            <p:ph type="dt" idx="1"/>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4"/>
          <p:cNvSpPr>
            <a:spLocks noGrp="1"/>
          </p:cNvSpPr>
          <p:nvPr>
            <p:ph type="sldNum" idx="2"/>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7EFB-CD66-4065-AC05-D43BC3F642BC}"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ftr" idx="3"/>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380"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81" name="PlaceHolder 3"/>
          <p:cNvSpPr>
            <a:spLocks noGrp="1"/>
          </p:cNvSpPr>
          <p:nvPr>
            <p:ph type="dt" idx="27"/>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2" name="PlaceHolder 4"/>
          <p:cNvSpPr>
            <a:spLocks noGrp="1"/>
          </p:cNvSpPr>
          <p:nvPr>
            <p:ph type="sldNum" idx="28"/>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1762-C8AE-437D-BCE5-43641B16751B}"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83" name="PlaceHolder 5"/>
          <p:cNvSpPr>
            <a:spLocks noGrp="1"/>
          </p:cNvSpPr>
          <p:nvPr>
            <p:ph type="ftr" idx="29"/>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421"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422" name="PlaceHolder 3"/>
          <p:cNvSpPr>
            <a:spLocks noGrp="1"/>
          </p:cNvSpPr>
          <p:nvPr>
            <p:ph type="dt" idx="30"/>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3" name="PlaceHolder 4"/>
          <p:cNvSpPr>
            <a:spLocks noGrp="1"/>
          </p:cNvSpPr>
          <p:nvPr>
            <p:ph type="sldNum" idx="31"/>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A0C6-FD23-45DB-9EA7-F2A2BB27E508}"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424" name="PlaceHolder 5"/>
          <p:cNvSpPr>
            <a:spLocks noGrp="1"/>
          </p:cNvSpPr>
          <p:nvPr>
            <p:ph type="ftr" idx="32"/>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462"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463" name="PlaceHolder 3"/>
          <p:cNvSpPr>
            <a:spLocks noGrp="1"/>
          </p:cNvSpPr>
          <p:nvPr>
            <p:ph type="dt" idx="33"/>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4" name="PlaceHolder 4"/>
          <p:cNvSpPr>
            <a:spLocks noGrp="1"/>
          </p:cNvSpPr>
          <p:nvPr>
            <p:ph type="sldNum" idx="34"/>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91A8-1E47-4794-94B0-08F2074AC6B6}"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465" name="PlaceHolder 5"/>
          <p:cNvSpPr>
            <a:spLocks noGrp="1"/>
          </p:cNvSpPr>
          <p:nvPr>
            <p:ph type="ftr" idx="35"/>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503"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504" name="PlaceHolder 3"/>
          <p:cNvSpPr>
            <a:spLocks noGrp="1"/>
          </p:cNvSpPr>
          <p:nvPr>
            <p:ph type="dt" idx="36"/>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5" name="PlaceHolder 4"/>
          <p:cNvSpPr>
            <a:spLocks noGrp="1"/>
          </p:cNvSpPr>
          <p:nvPr>
            <p:ph type="sldNum" idx="37"/>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44C0-C74C-4BE0-B0ED-F5CCDE0CC01A}"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506" name="PlaceHolder 5"/>
          <p:cNvSpPr>
            <a:spLocks noGrp="1"/>
          </p:cNvSpPr>
          <p:nvPr>
            <p:ph type="ftr" idx="38"/>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43"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4"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5"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6"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4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9" name="PlaceHolder 3"/>
          <p:cNvSpPr>
            <a:spLocks noGrp="1"/>
          </p:cNvSpPr>
          <p:nvPr>
            <p:ph type="dt" idx="39"/>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0" name="PlaceHolder 4"/>
          <p:cNvSpPr>
            <a:spLocks noGrp="1"/>
          </p:cNvSpPr>
          <p:nvPr>
            <p:ph type="ftr" idx="40"/>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1" name="PlaceHolder 5"/>
          <p:cNvSpPr>
            <a:spLocks noGrp="1"/>
          </p:cNvSpPr>
          <p:nvPr>
            <p:ph type="sldNum" idx="41"/>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2280-B994-4164-B4ED-53264FE4CFB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8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90" name="PlaceHolder 3"/>
          <p:cNvSpPr>
            <a:spLocks noGrp="1"/>
          </p:cNvSpPr>
          <p:nvPr>
            <p:ph type="dt" idx="4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1" name="PlaceHolder 4"/>
          <p:cNvSpPr>
            <a:spLocks noGrp="1"/>
          </p:cNvSpPr>
          <p:nvPr>
            <p:ph type="ftr" idx="4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2" name="PlaceHolder 5"/>
          <p:cNvSpPr>
            <a:spLocks noGrp="1"/>
          </p:cNvSpPr>
          <p:nvPr>
            <p:ph type="sldNum" idx="4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EE5E-746B-4F70-8FDB-5BFF07A93F8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2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63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633" name="PlaceHolder 3"/>
          <p:cNvSpPr>
            <a:spLocks noGrp="1"/>
          </p:cNvSpPr>
          <p:nvPr>
            <p:ph type="dt" idx="45"/>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4" name="PlaceHolder 4"/>
          <p:cNvSpPr>
            <a:spLocks noGrp="1"/>
          </p:cNvSpPr>
          <p:nvPr>
            <p:ph type="ftr" idx="46"/>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5" name="PlaceHolder 5"/>
          <p:cNvSpPr>
            <a:spLocks noGrp="1"/>
          </p:cNvSpPr>
          <p:nvPr>
            <p:ph type="sldNum" idx="47"/>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5B94-678C-4208-8A4F-947F2220C959}"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6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674" name="PlaceHolder 3"/>
          <p:cNvSpPr>
            <a:spLocks noGrp="1"/>
          </p:cNvSpPr>
          <p:nvPr>
            <p:ph type="dt" idx="48"/>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5" name="PlaceHolder 4"/>
          <p:cNvSpPr>
            <a:spLocks noGrp="1"/>
          </p:cNvSpPr>
          <p:nvPr>
            <p:ph type="ftr" idx="4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6" name="PlaceHolder 5"/>
          <p:cNvSpPr>
            <a:spLocks noGrp="1"/>
          </p:cNvSpPr>
          <p:nvPr>
            <p:ph type="sldNum" idx="5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55D1-748E-4BE0-9199-CFE45BE91CD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1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715" name="PlaceHolder 3"/>
          <p:cNvSpPr>
            <a:spLocks noGrp="1"/>
          </p:cNvSpPr>
          <p:nvPr>
            <p:ph type="dt" idx="5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6" name="PlaceHolder 4"/>
          <p:cNvSpPr>
            <a:spLocks noGrp="1"/>
          </p:cNvSpPr>
          <p:nvPr>
            <p:ph type="ftr" idx="5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7" name="PlaceHolder 5"/>
          <p:cNvSpPr>
            <a:spLocks noGrp="1"/>
          </p:cNvSpPr>
          <p:nvPr>
            <p:ph type="sldNum" idx="5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3E53-B89C-4C0E-B2F3-A88BF9A2162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54"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757" name="PlaceHolder 3"/>
          <p:cNvSpPr>
            <a:spLocks noGrp="1"/>
          </p:cNvSpPr>
          <p:nvPr>
            <p:ph type="dt" idx="54"/>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8" name="PlaceHolder 4"/>
          <p:cNvSpPr>
            <a:spLocks noGrp="1"/>
          </p:cNvSpPr>
          <p:nvPr>
            <p:ph type="ftr" idx="5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9" name="PlaceHolder 5"/>
          <p:cNvSpPr>
            <a:spLocks noGrp="1"/>
          </p:cNvSpPr>
          <p:nvPr>
            <p:ph type="sldNum" idx="5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0B74D-71D2-43CE-98AC-85374593093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4"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C087-E7BB-46C9-BDBB-9E34F83DC97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47"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50" name="Picture 2" descr="left_bar art"/>
          <p:cNvPicPr/>
          <p:nvPr/>
        </p:nvPicPr>
        <p:blipFill>
          <a:blip r:embed="rId3"/>
          <a:stretch/>
        </p:blipFill>
        <p:spPr>
          <a:xfrm>
            <a:off x="0" y="0"/>
            <a:ext cx="2514600" cy="708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97"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9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00" name="PlaceHolder 3"/>
          <p:cNvSpPr>
            <a:spLocks noGrp="1"/>
          </p:cNvSpPr>
          <p:nvPr>
            <p:ph type="dt" idx="57"/>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1" name="PlaceHolder 4"/>
          <p:cNvSpPr>
            <a:spLocks noGrp="1"/>
          </p:cNvSpPr>
          <p:nvPr>
            <p:ph type="ftr" idx="58"/>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2" name="PlaceHolder 5"/>
          <p:cNvSpPr>
            <a:spLocks noGrp="1"/>
          </p:cNvSpPr>
          <p:nvPr>
            <p:ph type="sldNum" idx="5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D566-153E-4255-918F-D36853A78EE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39"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40"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41"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8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44" name="PlaceHolder 3"/>
          <p:cNvSpPr>
            <a:spLocks noGrp="1"/>
          </p:cNvSpPr>
          <p:nvPr>
            <p:ph type="dt" idx="6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5" name="PlaceHolder 4"/>
          <p:cNvSpPr>
            <a:spLocks noGrp="1"/>
          </p:cNvSpPr>
          <p:nvPr>
            <p:ph type="ftr" idx="6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6" name="PlaceHolder 5"/>
          <p:cNvSpPr>
            <a:spLocks noGrp="1"/>
          </p:cNvSpPr>
          <p:nvPr>
            <p:ph type="sldNum" idx="6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62AA-6638-42AA-A943-0ADCCED350D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5"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88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888" name="PlaceHolder 3"/>
          <p:cNvSpPr>
            <a:spLocks noGrp="1"/>
          </p:cNvSpPr>
          <p:nvPr>
            <p:ph type="dt" idx="6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9" name="PlaceHolder 4"/>
          <p:cNvSpPr>
            <a:spLocks noGrp="1"/>
          </p:cNvSpPr>
          <p:nvPr>
            <p:ph type="ftr" idx="6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0" name="PlaceHolder 5"/>
          <p:cNvSpPr>
            <a:spLocks noGrp="1"/>
          </p:cNvSpPr>
          <p:nvPr>
            <p:ph type="sldNum" idx="6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98E6-7154-4E77-8223-E6262C985D49}"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2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29" name="PlaceHolder 3"/>
          <p:cNvSpPr>
            <a:spLocks noGrp="1"/>
          </p:cNvSpPr>
          <p:nvPr>
            <p:ph type="dt" idx="6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0" name="PlaceHolder 4"/>
          <p:cNvSpPr>
            <a:spLocks noGrp="1"/>
          </p:cNvSpPr>
          <p:nvPr>
            <p:ph type="ftr" idx="6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1" name="PlaceHolder 5"/>
          <p:cNvSpPr>
            <a:spLocks noGrp="1"/>
          </p:cNvSpPr>
          <p:nvPr>
            <p:ph type="sldNum" idx="6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7816-BBB4-4B34-B224-33CA20917F3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6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7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73" name="PlaceHolder 3"/>
          <p:cNvSpPr>
            <a:spLocks noGrp="1"/>
          </p:cNvSpPr>
          <p:nvPr>
            <p:ph type="dt" idx="6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4" name="PlaceHolder 4"/>
          <p:cNvSpPr>
            <a:spLocks noGrp="1"/>
          </p:cNvSpPr>
          <p:nvPr>
            <p:ph type="ftr" idx="7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5" name="PlaceHolder 5"/>
          <p:cNvSpPr>
            <a:spLocks noGrp="1"/>
          </p:cNvSpPr>
          <p:nvPr>
            <p:ph type="sldNum" idx="7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46B4-9B97-4E0E-BE9A-8142E24B51B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012" name="Picture 2" descr="left_bar art"/>
          <p:cNvPicPr/>
          <p:nvPr/>
        </p:nvPicPr>
        <p:blipFill>
          <a:blip r:embed="rId3"/>
          <a:stretch/>
        </p:blipFill>
        <p:spPr>
          <a:xfrm>
            <a:off x="0" y="0"/>
            <a:ext cx="2514600" cy="7086600"/>
          </a:xfrm>
          <a:prstGeom prst="rect">
            <a:avLst/>
          </a:prstGeom>
          <a:ln w="0">
            <a:noFill/>
          </a:ln>
        </p:spPr>
      </p:pic>
      <p:sp>
        <p:nvSpPr>
          <p:cNvPr id="1013" name="Rectangle 7"/>
          <p:cNvSpPr/>
          <p:nvPr/>
        </p:nvSpPr>
        <p:spPr>
          <a:xfrm>
            <a:off x="1905120" y="5715000"/>
            <a:ext cx="6400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4" name="Rectangle 9"/>
          <p:cNvSpPr/>
          <p:nvPr/>
        </p:nvSpPr>
        <p:spPr>
          <a:xfrm>
            <a:off x="18288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ird Edition</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015" name="Rectangle 10"/>
          <p:cNvSpPr/>
          <p:nvPr/>
        </p:nvSpPr>
        <p:spPr>
          <a:xfrm>
            <a:off x="1828800" y="3886200"/>
            <a:ext cx="6400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ECTRONIC COMMERCE</a:t>
            </a:r>
            <a:endParaRPr b="0" i="1" lang="en-US" sz="2400" spc="-1" strike="noStrike">
              <a:solidFill>
                <a:srgbClr val="000000"/>
              </a:solidFill>
              <a:latin typeface="Arial"/>
            </a:endParaRPr>
          </a:p>
        </p:txBody>
      </p:sp>
      <p:sp>
        <p:nvSpPr>
          <p:cNvPr id="1016" name="Rectangle 11"/>
          <p:cNvSpPr/>
          <p:nvPr/>
        </p:nvSpPr>
        <p:spPr>
          <a:xfrm>
            <a:off x="1828800" y="43434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rom Vision to Fulfillment</a:t>
            </a:r>
            <a:endParaRPr b="0" i="1" lang="en-US" sz="2400" spc="-1" strike="noStrike">
              <a:solidFill>
                <a:srgbClr val="000000"/>
              </a:solidFill>
              <a:latin typeface="Arial"/>
            </a:endParaRPr>
          </a:p>
        </p:txBody>
      </p:sp>
      <p:sp>
        <p:nvSpPr>
          <p:cNvPr id="10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0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019" name="PlaceHolder 3"/>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5BC7-A4C9-4C32-AB79-34D83219E287}"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1020" name="PlaceHolder 4"/>
          <p:cNvSpPr>
            <a:spLocks noGrp="1"/>
          </p:cNvSpPr>
          <p:nvPr>
            <p:ph type="ftr" idx="73"/>
          </p:nvPr>
        </p:nvSpPr>
        <p:spPr>
          <a:xfrm>
            <a:off x="3124080" y="6244920"/>
            <a:ext cx="3353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7" name="Picture 2" descr="left_bar art"/>
          <p:cNvPicPr/>
          <p:nvPr/>
        </p:nvPicPr>
        <p:blipFill>
          <a:blip r:embed="rId3"/>
          <a:stretch/>
        </p:blipFill>
        <p:spPr>
          <a:xfrm>
            <a:off x="0" y="0"/>
            <a:ext cx="2514600" cy="7086600"/>
          </a:xfrm>
          <a:prstGeom prst="rect">
            <a:avLst/>
          </a:prstGeom>
          <a:ln w="0">
            <a:noFill/>
          </a:ln>
        </p:spPr>
      </p:pic>
      <p:sp>
        <p:nvSpPr>
          <p:cNvPr id="88" name="Rectangle 7"/>
          <p:cNvSpPr/>
          <p:nvPr/>
        </p:nvSpPr>
        <p:spPr>
          <a:xfrm>
            <a:off x="1905120" y="5715000"/>
            <a:ext cx="6400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Rectangle 8"/>
          <p:cNvSpPr/>
          <p:nvPr/>
        </p:nvSpPr>
        <p:spPr>
          <a:xfrm>
            <a:off x="1828800" y="5791320"/>
            <a:ext cx="6400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ias M. Awad</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90" name="Rectangle 9"/>
          <p:cNvSpPr/>
          <p:nvPr/>
        </p:nvSpPr>
        <p:spPr>
          <a:xfrm>
            <a:off x="18288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ird Edition</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91" name="Rectangle 10"/>
          <p:cNvSpPr/>
          <p:nvPr/>
        </p:nvSpPr>
        <p:spPr>
          <a:xfrm>
            <a:off x="1828800" y="3886200"/>
            <a:ext cx="6400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ECTRONIC COMMERCE</a:t>
            </a:r>
            <a:endParaRPr b="0" i="1" lang="en-US" sz="2400" spc="-1" strike="noStrike">
              <a:solidFill>
                <a:srgbClr val="000000"/>
              </a:solidFill>
              <a:latin typeface="Arial"/>
            </a:endParaRPr>
          </a:p>
        </p:txBody>
      </p:sp>
      <p:sp>
        <p:nvSpPr>
          <p:cNvPr id="92" name="Rectangle 11"/>
          <p:cNvSpPr/>
          <p:nvPr/>
        </p:nvSpPr>
        <p:spPr>
          <a:xfrm>
            <a:off x="1828800" y="43434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rom Vision to Fulfillment</a:t>
            </a:r>
            <a:endParaRPr b="0" i="1" lang="en-US" sz="2400" spc="-1" strike="noStrike">
              <a:solidFill>
                <a:srgbClr val="000000"/>
              </a:solidFill>
              <a:latin typeface="Arial"/>
            </a:endParaRPr>
          </a:p>
        </p:txBody>
      </p:sp>
      <p:sp>
        <p:nvSpPr>
          <p:cNvPr id="93"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94"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95"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3E09-7A1B-47F1-A1EF-E304F3C99E64}"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124080" y="6244920"/>
            <a:ext cx="3353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134"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135" name="PlaceHolder 3"/>
          <p:cNvSpPr>
            <a:spLocks noGrp="1"/>
          </p:cNvSpPr>
          <p:nvPr>
            <p:ph type="dt" idx="9"/>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6" name="PlaceHolder 4"/>
          <p:cNvSpPr>
            <a:spLocks noGrp="1"/>
          </p:cNvSpPr>
          <p:nvPr>
            <p:ph type="sldNum" idx="10"/>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BB42-C63F-4B49-9CA6-DA9B5F334D04}"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137" name="PlaceHolder 5"/>
          <p:cNvSpPr>
            <a:spLocks noGrp="1"/>
          </p:cNvSpPr>
          <p:nvPr>
            <p:ph type="ftr" idx="11"/>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175"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176" name="PlaceHolder 3"/>
          <p:cNvSpPr>
            <a:spLocks noGrp="1"/>
          </p:cNvSpPr>
          <p:nvPr>
            <p:ph type="dt" idx="12"/>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PlaceHolder 4"/>
          <p:cNvSpPr>
            <a:spLocks noGrp="1"/>
          </p:cNvSpPr>
          <p:nvPr>
            <p:ph type="sldNum" idx="13"/>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9BA9-2261-4526-B673-64E2C04E3487}"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178" name="PlaceHolder 5"/>
          <p:cNvSpPr>
            <a:spLocks noGrp="1"/>
          </p:cNvSpPr>
          <p:nvPr>
            <p:ph type="ftr" idx="14"/>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16"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17" name="PlaceHolder 3"/>
          <p:cNvSpPr>
            <a:spLocks noGrp="1"/>
          </p:cNvSpPr>
          <p:nvPr>
            <p:ph type="dt" idx="15"/>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8" name="PlaceHolder 4"/>
          <p:cNvSpPr>
            <a:spLocks noGrp="1"/>
          </p:cNvSpPr>
          <p:nvPr>
            <p:ph type="sldNum" idx="16"/>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7EE4-81BE-40AA-9E42-A098C0BE055B}"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219" name="PlaceHolder 5"/>
          <p:cNvSpPr>
            <a:spLocks noGrp="1"/>
          </p:cNvSpPr>
          <p:nvPr>
            <p:ph type="ftr" idx="17"/>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57"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58" name="PlaceHolder 3"/>
          <p:cNvSpPr>
            <a:spLocks noGrp="1"/>
          </p:cNvSpPr>
          <p:nvPr>
            <p:ph type="dt" idx="18"/>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9" name="PlaceHolder 4"/>
          <p:cNvSpPr>
            <a:spLocks noGrp="1"/>
          </p:cNvSpPr>
          <p:nvPr>
            <p:ph type="sldNum" idx="19"/>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C119-9198-481D-A6F2-D33523FE09B6}"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260" name="PlaceHolder 5"/>
          <p:cNvSpPr>
            <a:spLocks noGrp="1"/>
          </p:cNvSpPr>
          <p:nvPr>
            <p:ph type="ftr" idx="20"/>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98"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99" name="PlaceHolder 3"/>
          <p:cNvSpPr>
            <a:spLocks noGrp="1"/>
          </p:cNvSpPr>
          <p:nvPr>
            <p:ph type="dt" idx="21"/>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0" name="PlaceHolder 4"/>
          <p:cNvSpPr>
            <a:spLocks noGrp="1"/>
          </p:cNvSpPr>
          <p:nvPr>
            <p:ph type="sldNum" idx="22"/>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EC18-AAA1-46AD-876F-E33DBE479C98}"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01" name="PlaceHolder 5"/>
          <p:cNvSpPr>
            <a:spLocks noGrp="1"/>
          </p:cNvSpPr>
          <p:nvPr>
            <p:ph type="ftr" idx="23"/>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339"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40" name="PlaceHolder 3"/>
          <p:cNvSpPr>
            <a:spLocks noGrp="1"/>
          </p:cNvSpPr>
          <p:nvPr>
            <p:ph type="dt" idx="24"/>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PlaceHolder 4"/>
          <p:cNvSpPr>
            <a:spLocks noGrp="1"/>
          </p:cNvSpPr>
          <p:nvPr>
            <p:ph type="sldNum" idx="25"/>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4D11-E33E-45D1-8585-D74B846E016A}"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42" name="PlaceHolder 5"/>
          <p:cNvSpPr>
            <a:spLocks noGrp="1"/>
          </p:cNvSpPr>
          <p:nvPr>
            <p:ph type="ftr" idx="26"/>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4"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072C-00B1-4298-B332-718FEBC0D869}" type="slidenum">
              <a:rPr b="0" i="1" lang="en-US" sz="1400" spc="-1" strike="noStrike">
                <a:solidFill>
                  <a:srgbClr val="996633"/>
                </a:solidFill>
                <a:latin typeface="Arial"/>
              </a:rPr>
              <a:t>&lt;number&gt;</a:t>
            </a:fld>
            <a:endParaRPr b="0" i="1" lang="en-US" sz="1400" spc="-1" strike="noStrike">
              <a:solidFill>
                <a:srgbClr val="000000"/>
              </a:solidFill>
              <a:latin typeface="Arial"/>
            </a:endParaRPr>
          </a:p>
        </p:txBody>
      </p:sp>
      <p:sp>
        <p:nvSpPr>
          <p:cNvPr id="1065" name="Rectangle 12"/>
          <p:cNvSpPr/>
          <p:nvPr/>
        </p:nvSpPr>
        <p:spPr>
          <a:xfrm>
            <a:off x="3124080" y="6245280"/>
            <a:ext cx="33530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6" name="Rectangle 7"/>
          <p:cNvSpPr/>
          <p:nvPr/>
        </p:nvSpPr>
        <p:spPr>
          <a:xfrm>
            <a:off x="380880" y="2286000"/>
            <a:ext cx="86868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hapter 8 </a:t>
            </a:r>
            <a:endParaRPr b="0"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hannels in ecommerce</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464653"/>
                </a:solidFill>
                <a:latin typeface="Bookman Old Style"/>
              </a:rPr>
              <a:t>Order fulfilment through ecommerce..contd..</a:t>
            </a:r>
            <a:endParaRPr b="0" lang="en-US" sz="2400" spc="-1" strike="noStrike">
              <a:solidFill>
                <a:srgbClr val="464653"/>
              </a:solidFill>
              <a:latin typeface="Bookman Old Style"/>
            </a:endParaRPr>
          </a:p>
        </p:txBody>
      </p:sp>
      <p:sp>
        <p:nvSpPr>
          <p:cNvPr id="1099" name=""/>
          <p:cNvSpPr txBox="1"/>
          <p:nvPr/>
        </p:nvSpPr>
        <p:spPr>
          <a:xfrm>
            <a:off x="457200" y="1219320"/>
            <a:ext cx="8229600" cy="4937040"/>
          </a:xfrm>
          <a:prstGeom prst="rect">
            <a:avLst/>
          </a:prstGeom>
          <a:noFill/>
          <a:ln w="0">
            <a:noFill/>
          </a:ln>
        </p:spPr>
        <p:txBody>
          <a:bodyPr anchor="t">
            <a:normAutofit fontScale="88000"/>
          </a:bodyPr>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nsolidating Orders through the portal</a:t>
            </a:r>
            <a:endParaRPr b="0" lang="en-US" sz="24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Load Planning Module (LPM) tools help in consolidation</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LPM considers trailer availability, customer and SKU loading constraints to plan loads</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Warehouse level inventory allocation is done for the load</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Shipments can be grouped</a:t>
            </a:r>
            <a:endParaRPr b="0" lang="en-US" sz="2400" spc="-1" strike="noStrike">
              <a:solidFill>
                <a:srgbClr val="464653"/>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commerce portal in supply chain</a:t>
            </a:r>
            <a:endParaRPr b="0" lang="en-US" sz="24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Builds long-term strategic relationships with all the business partners including customers</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Recognizes and rewards team efforts </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Easy to use and implement</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Flexible, modular and scaleable</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Open systems, client/server</a:t>
            </a:r>
            <a:endParaRPr b="0" lang="en-US" sz="2400" spc="-1" strike="noStrike">
              <a:solidFill>
                <a:srgbClr val="464653"/>
              </a:solidFill>
              <a:latin typeface="Gill Sans MT"/>
            </a:endParaRPr>
          </a:p>
        </p:txBody>
      </p:sp>
      <p:sp>
        <p:nvSpPr>
          <p:cNvPr id="1100"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536A-162F-44D9-9E80-3AE851298B4E}"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464653"/>
                </a:solidFill>
                <a:latin typeface="Bookman Old Style"/>
              </a:rPr>
              <a:t>CASE: Carwale.com</a:t>
            </a:r>
            <a:r>
              <a:rPr b="0" lang="en-US" sz="3200" spc="-1" strike="noStrike">
                <a:solidFill>
                  <a:srgbClr val="464653"/>
                </a:solidFill>
                <a:latin typeface="Bookman Old Style"/>
              </a:rPr>
              <a:t> and Cardekho.com </a:t>
            </a:r>
            <a:endParaRPr b="0" lang="en-US" sz="3200" spc="-1" strike="noStrike">
              <a:solidFill>
                <a:srgbClr val="464653"/>
              </a:solidFill>
              <a:latin typeface="Bookman Old Style"/>
            </a:endParaRPr>
          </a:p>
        </p:txBody>
      </p:sp>
      <p:sp>
        <p:nvSpPr>
          <p:cNvPr id="110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Points to be discuss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Research on suitable model based o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Pric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Model</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Feature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Prospect to conver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Scheduling of test driv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Options provid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Colou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Model</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Financial</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1104"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5"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AA4D8-3715-4D9C-8452-CD2A4B69A3F0}"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ase: Cafe Coffee Day</a:t>
            </a:r>
            <a:endParaRPr b="0" lang="en-US" sz="3200" spc="-1" strike="noStrike">
              <a:solidFill>
                <a:srgbClr val="464653"/>
              </a:solidFill>
              <a:latin typeface="Bookman Old Style"/>
            </a:endParaRPr>
          </a:p>
        </p:txBody>
      </p:sp>
      <p:sp>
        <p:nvSpPr>
          <p:cNvPr id="110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Discus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New business model in coffe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New experience for all stakeholder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Order fulfilmen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Value propositions to all partners</a:t>
            </a:r>
            <a:endParaRPr b="0" lang="en-US" sz="2600" spc="-1" strike="noStrike">
              <a:solidFill>
                <a:srgbClr val="000000"/>
              </a:solidFill>
              <a:latin typeface="Gill Sans MT"/>
            </a:endParaRPr>
          </a:p>
        </p:txBody>
      </p:sp>
      <p:sp>
        <p:nvSpPr>
          <p:cNvPr id="1108"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4F89-F5E5-49E3-96DC-DE9E0823EC8A}"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464653"/>
                </a:solidFill>
                <a:latin typeface="Bookman Old Style"/>
              </a:rPr>
              <a:t>Summary</a:t>
            </a:r>
            <a:endParaRPr b="0" lang="en-US" sz="3200" spc="-1" strike="noStrike">
              <a:solidFill>
                <a:srgbClr val="464653"/>
              </a:solidFill>
              <a:latin typeface="Bookman Old Style"/>
            </a:endParaRPr>
          </a:p>
        </p:txBody>
      </p:sp>
      <p:sp>
        <p:nvSpPr>
          <p:cNvPr id="111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We discuss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ole of e-commerce in a multi channel system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Using technology </a:t>
            </a:r>
            <a:r>
              <a:rPr b="0" lang="en-US" sz="2600" spc="-1" strike="noStrike">
                <a:solidFill>
                  <a:srgbClr val="000000"/>
                </a:solidFill>
                <a:latin typeface="Gill Sans MT"/>
              </a:rPr>
              <a:t>improve effective conversion rat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formation does not fall through crack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mproving predictability, sustainability and accuracy of result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2"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1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849C-AE76-4DB0-BF22-DF1195AE7456}"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Bookman Old Style"/>
              </a:rPr>
              <a:t>Learning objectives</a:t>
            </a:r>
            <a:endParaRPr b="0" lang="en-US" sz="4000" spc="-1" strike="noStrike">
              <a:solidFill>
                <a:srgbClr val="464653"/>
              </a:solidFill>
              <a:latin typeface="Bookman Old Style"/>
            </a:endParaRPr>
          </a:p>
        </p:txBody>
      </p:sp>
      <p:sp>
        <p:nvSpPr>
          <p:cNvPr id="10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fferent channels that are available for ecommerce</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to manage multiple sales in ecommerce</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to blend channels for growth and profitability</a:t>
            </a:r>
            <a:endParaRPr b="0" lang="en-US" sz="2000" spc="-1" strike="noStrike">
              <a:solidFill>
                <a:srgbClr val="000000"/>
              </a:solidFill>
              <a:latin typeface="Gill Sans MT"/>
            </a:endParaRPr>
          </a:p>
        </p:txBody>
      </p:sp>
      <p:sp>
        <p:nvSpPr>
          <p:cNvPr id="106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7ADB-EBDE-4F3D-8EAF-67FCCCBA8CF3}"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464653"/>
                </a:solidFill>
                <a:latin typeface="Bookman Old Style"/>
              </a:rPr>
              <a:t>Introduction</a:t>
            </a:r>
            <a:endParaRPr b="0" lang="en-US" sz="3200" spc="-1" strike="noStrike">
              <a:solidFill>
                <a:srgbClr val="464653"/>
              </a:solidFill>
              <a:latin typeface="Bookman Old Style"/>
            </a:endParaRPr>
          </a:p>
        </p:txBody>
      </p:sp>
      <p:sp>
        <p:nvSpPr>
          <p:cNvPr id="1071" name=""/>
          <p:cNvSpPr txBox="1"/>
          <p:nvPr/>
        </p:nvSpPr>
        <p:spPr>
          <a:xfrm>
            <a:off x="457200" y="1219320"/>
            <a:ext cx="8229600" cy="4937040"/>
          </a:xfrm>
          <a:prstGeom prst="rect">
            <a:avLst/>
          </a:prstGeom>
          <a:noFill/>
          <a:ln w="0">
            <a:noFill/>
          </a:ln>
        </p:spPr>
        <p:txBody>
          <a:bodyPr anchor="t">
            <a:normAutofit/>
          </a:bodyPr>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hannel for marketing is a mix of field sales, retail, business partners, direct marketing, call center, and electronic media</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is is already happening in In industries such as digital, technology, retail, and financial servic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is implies to grow profitably and effectively, it will require a mixture of optimized channel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optimization will lower selling costs, happier customers, and more reliable results</a:t>
            </a: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br>
              <a:rPr sz="2300"/>
            </a:br>
            <a:r>
              <a:rPr b="0" lang="en-US" sz="2300" spc="-1" strike="noStrike">
                <a:solidFill>
                  <a:srgbClr val="464653"/>
                </a:solidFill>
                <a:latin typeface="Gill Sans MT"/>
              </a:rPr>
              <a:t> </a:t>
            </a:r>
            <a:endParaRPr b="0" lang="en-US" sz="2300" spc="-1" strike="noStrike">
              <a:solidFill>
                <a:srgbClr val="464653"/>
              </a:solidFill>
              <a:latin typeface="Gill Sans MT"/>
            </a:endParaRPr>
          </a:p>
        </p:txBody>
      </p:sp>
      <p:sp>
        <p:nvSpPr>
          <p:cNvPr id="1072"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FB76-2D73-4D08-8088-A3DD620855DC}"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3045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ASE : Airtel</a:t>
            </a:r>
            <a:br>
              <a:rPr sz="3200"/>
            </a:br>
            <a:endParaRPr b="0" lang="en-US" sz="3200" spc="-1" strike="noStrike">
              <a:solidFill>
                <a:srgbClr val="464653"/>
              </a:solidFill>
              <a:latin typeface="Bookman Old Style"/>
            </a:endParaRPr>
          </a:p>
        </p:txBody>
      </p:sp>
      <p:sp>
        <p:nvSpPr>
          <p:cNvPr id="1075" name=""/>
          <p:cNvSpPr txBox="1"/>
          <p:nvPr/>
        </p:nvSpPr>
        <p:spPr>
          <a:xfrm>
            <a:off x="304920" y="1219320"/>
            <a:ext cx="8229600" cy="838080"/>
          </a:xfrm>
          <a:prstGeom prst="rect">
            <a:avLst/>
          </a:prstGeom>
          <a:noFill/>
          <a:ln w="0">
            <a:noFill/>
          </a:ln>
        </p:spPr>
        <p:txBody>
          <a:bodyPr anchor="t">
            <a:normAutofit fontScale="40000"/>
          </a:bodyPr>
          <a:p>
            <a:pPr marL="109080" indent="-1090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Gill Sans MT"/>
              </a:rPr>
              <a:t>The company initially dealt with automating customer billing processes only. The marketing was done through sales force through direct marketing route. Then it adopted mass communication channels such as TV, digital banner to attract customers. Now </a:t>
            </a:r>
            <a:r>
              <a:rPr b="0" lang="en-US" sz="2400" spc="-1" strike="noStrike">
                <a:solidFill>
                  <a:srgbClr val="000000"/>
                </a:solidFill>
                <a:latin typeface="Gill Sans MT"/>
              </a:rPr>
              <a:t>a combination of third party business  partners, such as stationary shop owners who their own office space to sell ‘recharge vouchers’ to individuals and its own key customer account sales forces along with banner advertisements in different internet websites and call center channels to generate demand and support business partners.  </a:t>
            </a:r>
            <a:endParaRPr b="0" lang="en-US" sz="2400" spc="-1" strike="noStrike">
              <a:solidFill>
                <a:srgbClr val="000000"/>
              </a:solidFill>
              <a:latin typeface="Gill Sans MT"/>
            </a:endParaRPr>
          </a:p>
        </p:txBody>
      </p:sp>
      <p:sp>
        <p:nvSpPr>
          <p:cNvPr id="1076"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74FEB-6F23-45E4-A508-8E9CF1146AAD}"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53"/>
                </a:solidFill>
                <a:latin typeface="Bookman Old Style"/>
              </a:rPr>
              <a:t>e-commerce in multichannel marketing</a:t>
            </a:r>
            <a:endParaRPr b="0" lang="en-US" sz="3000" spc="-1" strike="noStrike">
              <a:solidFill>
                <a:srgbClr val="464653"/>
              </a:solidFill>
              <a:latin typeface="Bookman Old Style"/>
            </a:endParaRPr>
          </a:p>
        </p:txBody>
      </p:sp>
      <p:sp>
        <p:nvSpPr>
          <p:cNvPr id="1079" name=""/>
          <p:cNvSpPr txBox="1"/>
          <p:nvPr/>
        </p:nvSpPr>
        <p:spPr>
          <a:xfrm>
            <a:off x="457200" y="1066320"/>
            <a:ext cx="8229600" cy="525780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commerce portals need to collect data for each and every sale</a:t>
            </a: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se data generate information so that proper managerial decision is taken</a:t>
            </a: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se decisions help improve sales for the organization</a:t>
            </a: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hannels come in many different types and roles</a:t>
            </a:r>
            <a:endParaRPr b="0" lang="en-US" sz="2000" spc="-1" strike="noStrike">
              <a:solidFill>
                <a:srgbClr val="000000"/>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Sales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Service channels</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Direct marketing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Business partner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Ecommerce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Tele marketing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Call centre based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Email based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SMS based channel</a:t>
            </a:r>
            <a:endParaRPr b="0" lang="en-US" sz="1700" spc="-1" strike="noStrike">
              <a:solidFill>
                <a:srgbClr val="464653"/>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mbine these call center and electronic channels with traditional field sales, retail, and distribution partners into multichannel selling systems</a:t>
            </a: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080"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50B7-1788-48E3-9B74-5C2E6573C593}"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7632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53"/>
                </a:solidFill>
                <a:latin typeface="Bookman Old Style"/>
              </a:rPr>
              <a:t>e-commerce in multichannel marketing...contd..</a:t>
            </a:r>
            <a:endParaRPr b="0" lang="en-US" sz="2400" spc="-1" strike="noStrike">
              <a:solidFill>
                <a:srgbClr val="464653"/>
              </a:solidFill>
              <a:latin typeface="Bookman Old Style"/>
            </a:endParaRPr>
          </a:p>
        </p:txBody>
      </p:sp>
      <p:sp>
        <p:nvSpPr>
          <p:cNvPr id="1083" name=""/>
          <p:cNvSpPr txBox="1"/>
          <p:nvPr/>
        </p:nvSpPr>
        <p:spPr>
          <a:xfrm>
            <a:off x="457200" y="91440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ernet penetration and consumers becoming are tech savvy</a:t>
            </a:r>
            <a:endParaRPr b="0" lang="en-US" sz="1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an support both direct selling and indirect selling</a:t>
            </a:r>
            <a:endParaRPr b="0" lang="en-US" sz="1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ll vs HP :  unlike Dell, which thrusts its marketing only on e-commerce, HP has decided to use multi channel marketing so as to get maximum market share in personal computer industry - “hybrid” process had a 50 percent close rate</a:t>
            </a:r>
            <a:endParaRPr b="0" lang="en-US" sz="1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ybrid reduces </a:t>
            </a:r>
            <a:endParaRPr b="0" lang="en-US" sz="1800" spc="-1" strike="noStrike">
              <a:solidFill>
                <a:srgbClr val="000000"/>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conflicts between selling channels,</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lost sales leads that fall through the cracks, </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gaps in market coverage</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focus from building channels to integrate channels</a:t>
            </a:r>
            <a:endParaRPr b="0" lang="en-US" sz="1800" spc="-1" strike="noStrike">
              <a:solidFill>
                <a:srgbClr val="464653"/>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uch hybrid channels reduce</a:t>
            </a:r>
            <a:endParaRPr b="0" lang="en-US" sz="1800" spc="-1" strike="noStrike">
              <a:solidFill>
                <a:srgbClr val="000000"/>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Salespeople in different channels will compete for the same business;</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Leads might not be followed up for converting them to customers;</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Inconsistencies in customer relationship management;</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Ineffective integration of channels because of which there could be revenue leaks.</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084"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5"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7189-1FFD-44DB-9E44-F1657F6A1A2F}"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53"/>
                </a:solidFill>
                <a:latin typeface="Bookman Old Style"/>
              </a:rPr>
              <a:t>e-commerce in multichannel marketing...contd..</a:t>
            </a:r>
            <a:endParaRPr b="0" lang="en-US" sz="3000" spc="-1" strike="noStrike">
              <a:solidFill>
                <a:srgbClr val="464653"/>
              </a:solidFill>
              <a:latin typeface="Bookman Old Style"/>
            </a:endParaRPr>
          </a:p>
        </p:txBody>
      </p:sp>
      <p:sp>
        <p:nvSpPr>
          <p:cNvPr id="108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To be effective in multichannel system, e-commerce should defin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ervice Level Agreements (SLA) for each channel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new incentive plans that encourage people in different channels to work togethe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trategizing the entire potential market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defining new rules and channel policies </a:t>
            </a:r>
            <a:endParaRPr b="0" lang="en-US" sz="2300" spc="-1" strike="noStrike">
              <a:solidFill>
                <a:srgbClr val="464653"/>
              </a:solidFill>
              <a:latin typeface="Gill Sans MT"/>
            </a:endParaRPr>
          </a:p>
        </p:txBody>
      </p:sp>
      <p:sp>
        <p:nvSpPr>
          <p:cNvPr id="1088"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D549-0BB6-44EE-8B18-0514691962E0}"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464653"/>
                </a:solidFill>
                <a:latin typeface="Bookman Old Style"/>
              </a:rPr>
              <a:t>Order fulfilment through ecommerce</a:t>
            </a:r>
            <a:endParaRPr b="0" lang="en-US" sz="3200" spc="-1" strike="noStrike">
              <a:solidFill>
                <a:srgbClr val="464653"/>
              </a:solidFill>
              <a:latin typeface="Bookman Old Style"/>
            </a:endParaRPr>
          </a:p>
        </p:txBody>
      </p:sp>
      <p:sp>
        <p:nvSpPr>
          <p:cNvPr id="1091" name=""/>
          <p:cNvSpPr txBox="1"/>
          <p:nvPr/>
        </p:nvSpPr>
        <p:spPr>
          <a:xfrm>
            <a:off x="457200" y="1219320"/>
            <a:ext cx="8229600" cy="4937040"/>
          </a:xfrm>
          <a:prstGeom prst="rect">
            <a:avLst/>
          </a:prstGeom>
          <a:noFill/>
          <a:ln w="0">
            <a:noFill/>
          </a:ln>
        </p:spPr>
        <p:txBody>
          <a:bodyPr anchor="t">
            <a:normAutofit fontScale="90000"/>
          </a:bodyPr>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Integrated environment so as to </a:t>
            </a:r>
            <a:r>
              <a:rPr b="0" lang="en-US" sz="2600" spc="-1" strike="noStrike">
                <a:solidFill>
                  <a:srgbClr val="000000"/>
                </a:solidFill>
                <a:latin typeface="Gill Sans MT"/>
              </a:rPr>
              <a:t>build partnerships with its vendors, sub-contractors, logistics providers as well as its customers</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elps its stakeholders in increasing their value proposition</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ong term business strategic partnership is developed</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vides support with different degree of customization to suit the partners specific requirements</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ustomers are offered a choice of different levels of support to suit their specific requirements</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ject management tools help to provide a detailed plan and schedule for the implementation program</a:t>
            </a:r>
            <a:endParaRPr b="0" lang="en-US" sz="2600" spc="-1" strike="noStrike">
              <a:solidFill>
                <a:srgbClr val="000000"/>
              </a:solidFill>
              <a:latin typeface="Gill Sans MT"/>
            </a:endParaRPr>
          </a:p>
        </p:txBody>
      </p:sp>
      <p:sp>
        <p:nvSpPr>
          <p:cNvPr id="1092"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9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0BB7-A688-4C3D-B26C-4E49D482C0DB}"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464653"/>
                </a:solidFill>
                <a:latin typeface="Bookman Old Style"/>
              </a:rPr>
              <a:t>Order fulfilment through ecommerce..contd..</a:t>
            </a:r>
            <a:endParaRPr b="0" lang="en-US" sz="2400" spc="-1" strike="noStrike">
              <a:solidFill>
                <a:srgbClr val="464653"/>
              </a:solidFill>
              <a:latin typeface="Bookman Old Style"/>
            </a:endParaRPr>
          </a:p>
        </p:txBody>
      </p:sp>
      <p:sp>
        <p:nvSpPr>
          <p:cNvPr id="1095"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commerce portals provide required training and skills to their partners </a:t>
            </a:r>
            <a:endParaRPr b="0" lang="en-US" sz="20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impart online training modules </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Online training reduces time involved in logistics</a:t>
            </a:r>
            <a:endParaRPr b="0" lang="en-US" sz="2000" spc="-1" strike="noStrike">
              <a:solidFill>
                <a:srgbClr val="464653"/>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uously fine-tuned to enhance response to market needs</a:t>
            </a:r>
            <a:endParaRPr b="0" lang="en-US" sz="2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ventory Management through the portal</a:t>
            </a:r>
            <a:endParaRPr b="0" lang="en-US" sz="2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elps in Inbound Planning Process</a:t>
            </a:r>
            <a:endParaRPr b="0" lang="en-US" sz="20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Inquire into expected receipts against purchase orders or Advance Shipment Notices (ASN)</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Re) print receiving worksheets for an ASN </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Create or modify ASNs</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Create LPN's (License Plate Numbers)</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464653"/>
                </a:solidFill>
                <a:latin typeface="Gill Sans MT"/>
              </a:rPr>
              <a:t>Schedule docks and workers for unloading</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464653"/>
                </a:solidFill>
                <a:latin typeface="Gill Sans MT"/>
              </a:rPr>
              <a:t>Enter, modify or change the status of ASN's</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096"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9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81A8-9636-40D6-B068-1E6D173756D0}"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2T00:21:47Z</dcterms:created>
  <dc:creator>RGPlatt</dc:creator>
  <dc:description/>
  <dc:language>en-US</dc:language>
  <cp:lastModifiedBy>Sanjay</cp:lastModifiedBy>
  <dcterms:modified xsi:type="dcterms:W3CDTF">2013-04-03T17:07:59Z</dcterms:modified>
  <cp:revision>417</cp:revision>
  <dc:subject>Awad 3rd ed</dc:subject>
  <dc:title>The Dawn of a Maturing Indust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